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AEF6-C46A-4C77-9A6D-52FFE17A6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AAE5-CDF8-4D2A-9FB0-129B1B22F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133-F314-4865-B213-31E1AB82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DD4E-4AF7-4503-9FF7-A655BB01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D094-3B41-44DC-A12E-C3B82670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4C9D-F09C-4B2B-93EF-C34E768A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EA73-E572-4645-99B9-8237F56D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714C-C189-49B1-AA7F-8AEFB2AE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9A7-DA02-4B47-BBF6-F4416AA2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6B4-D969-4ECC-882F-2716DED6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067-096A-4873-8F80-E244176D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036-CFBE-433B-BC4E-DB7A0C5C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7EF-81CF-4713-9073-6B3CE6A1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1D7-9E4E-4D87-AEE2-99A9F7C0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ABEF-59E1-4346-AFE6-4CDF1A6D7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ra Youss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 Sara Youssef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352680"/>
            <a:ext cx="1752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la, mi nombre es Sara Youssef. Yo vivo en la ciudad de New York. Tengo una hermana pequeña. Siempre estoy feliz y bue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60199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Hola Sara, voy a hacer una fiesta sorpresa para el cumpleaños de Andre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Voy a tomar un video y enviarlo a usted para que pueda ve a su famil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59436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y bien, gracias. Ella es grande. Tengo tantas preguntas que hacert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¿Cuántos primos hacer  tengo en Egipto. ¿Son ellos  gordos, flacos, inteligente, estúpido, corto de altura,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¿Cuáles son emabrgo talentos. ¿Pueden cantar, bailar, hablar Inglés, escribir, responder rápid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609588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ómo estás? Usted y su hermana son hermosos en las fot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¿Cuántos años tienes ahora?  Tu primo, Andrea, tiene quince años ahor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 tienes que llamar más a menudo. Te echo de men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819520" y="4419720"/>
            <a:ext cx="51814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chas gracias, por favor indique que ella  la amo  y la deseos una feliz cumpleaños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895480" y="5181480"/>
            <a:ext cx="57913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No se preocupe. Voy a hacerle saber, pero tengo que ir a poner la decoración así que voy a decir adiós ahor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666880" y="6172200"/>
            <a:ext cx="403884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Espero que tengan noche de diversión y buena.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9"/>
          <p:cNvSpPr/>
          <p:nvPr/>
        </p:nvSpPr>
        <p:spPr>
          <a:xfrm>
            <a:off x="1481040" y="254016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4:28:06Z</dcterms:created>
  <dc:creator>FriscoISD</dc:creator>
  <dc:description/>
  <dc:language>en-US</dc:language>
  <cp:lastModifiedBy>NYCDOE</cp:lastModifiedBy>
  <dcterms:modified xsi:type="dcterms:W3CDTF">2012-12-07T15:01:11Z</dcterms:modified>
  <cp:revision>102</cp:revision>
  <dc:subject/>
  <dc:title>Profile</dc:title>
</cp:coreProperties>
</file>